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904F-840E-4BE0-AB94-78EFE78F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0796-9001-46BB-BB4A-72DA5526B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D7BF-E941-4381-8C11-C86FA593F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7CEB-F07E-4950-9914-8E7840010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1D98-ADBF-4F12-98A9-33FC6C78B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nquistador"/>
          <p:cNvPicPr/>
          <p:nvPr/>
        </p:nvPicPr>
        <p:blipFill>
          <a:blip r:embed="rId2"/>
          <a:stretch/>
        </p:blipFill>
        <p:spPr>
          <a:xfrm>
            <a:off x="0" y="0"/>
            <a:ext cx="1747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438280" y="5486400"/>
            <a:ext cx="6019920" cy="466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61400" y="369720"/>
            <a:ext cx="545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00"/>
                </a:solidFill>
                <a:uFillTx/>
                <a:latin typeface="BlackChancery"/>
              </a:rPr>
              <a:t>Europea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00"/>
                </a:solidFill>
                <a:uFillTx/>
                <a:latin typeface="BlackChancery"/>
              </a:rPr>
              <a:t>Explo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429000" y="5562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Bartholomeu D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4760" y="91404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euse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r that first rounded the tip of Africa to get to Asia, wanted to Christianize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ailing around the tip of Africa, his supplies were gone &amp; he had to go home – didn’t discover the sea route to Asia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Vasco de G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4760" y="91404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euse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r that rounded the tip of Africa &amp; reached Ind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the sea route to Asia for Portugal! Encouraged other countries to try and find the way there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same time Portugal was exploring, Spain started too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Italian nav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wanted to reach the East Indies in Indonesia (South Pacific), sailed west across the Atlan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Spain,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4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persuaded Ferdinand &amp; Isabella of Spain to sponsor him to bring wealth &amp; prestige to Spain; Landed in the Caribbean, called the ppl “Indians”- doscovered W. Hemisphere= others went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dinand Magellan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52120" y="990360"/>
            <a:ext cx="723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Spanish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led an expedition to the Philippines (in SouthEast Asia) &amp; established a trading empir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Spain, 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5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He founded the Philippines = the Philippines is rooted in Spanish language and culture today; others want to go to this area &amp; make trading empires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a result.. tension grew between Spain &amp; Portugal… 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Tordesillas” (N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52120" y="914040"/>
            <a:ext cx="7239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Spanish &amp; Portug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Treaty that made the Line of Demarcation separating lands to keep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imaginary line through Atlan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4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separated lands b/n Spain &amp; Portugal to keep them at peace- lands to the West of line = Spain, East of line =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… Other countries got involved too… li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rlands/Holland (the Dut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ion compa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untries made “companies” that led expeditions, so instead of a King or Queen giving $$ (like in Spain &amp; Portugal), groups of rich men pulled their $$ together to fund expedition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 that had the best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/Holland (the Du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BlackChancery"/>
              </a:rPr>
              <a:t>Dutch East India Compan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440" y="83808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Dutch Merchants (from Netherl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a company that could mint $$, make treaties, &amp; raise an army to establish direct sea trade with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 Netherlands,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: 16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this company was richer &amp; more powerful than England’s company so the Dutch kicked the English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e “Crusades” ??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Europeans to trade goods from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ed religious intolerance &amp; dislike between Christians &amp; Muslims about control of the Holy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Renaissance, people had a desire to learn and be wealthy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ew ideas &amp; advancements… lik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2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Advance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28800" y="1066680"/>
            <a:ext cx="6858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v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rdier than earlier 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l effectively against the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al techniq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labe (Muslims) – calculate latit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 (Chinese) – accurately track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800" y="1294920"/>
            <a:ext cx="6858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d, Glory, Gol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 for new sources of w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spices &amp; luxury goods from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 to spread Christia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ility between Christians &amp; Musl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905120" y="28908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Who explo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057400" y="1265400"/>
            <a:ext cx="6781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rtugal – leader &amp;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ain - #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ance &amp; England have a bit to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152280"/>
            <a:ext cx="7086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Why Portug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er in developing &amp; applying these sailing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government support*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ave trading outposts along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289080"/>
            <a:ext cx="708660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BlackChancery"/>
              </a:rPr>
              <a:t>Prince Hen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7400" y="1295280"/>
            <a:ext cx="6781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on of Portugal’s king, “Henry the Navigato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st enthusiastic supporter of exploration for Portug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rtug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394-14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f7c23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e used his own $$ to fund exploration –&gt; Portugal was #1 in exploration –&gt; Est. trading posts in Africa &amp; Asia -&gt; Henry died bro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BlackChancery"/>
              </a:rPr>
              <a:t>Portugal gets to As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ed to get to Asia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to sail around the tip of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they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. Bartholomeu Dias- rounded the tip, storm = had to 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. Vasco de Gama- rounded Africa &amp; got to Ind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00:18:24Z</dcterms:created>
  <dc:creator>Susan M. Pojer</dc:creator>
  <dc:description/>
  <dc:language>en-US</dc:language>
  <cp:lastModifiedBy>Windows User</cp:lastModifiedBy>
  <dcterms:modified xsi:type="dcterms:W3CDTF">2012-12-05T17:24:47Z</dcterms:modified>
  <cp:revision>125</cp:revision>
  <dc:subject/>
  <dc:title>Age of Early European Explorations &amp; Conquests</dc:title>
</cp:coreProperties>
</file>